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94F-EFFE-499F-AA79-71701EF9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5E8-EAA9-4798-85C2-82A478D9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6E64-7A68-4790-B51A-FFDE051E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742-6AD1-454B-B357-7912CA98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737-39D0-473D-A6BA-593BFAF7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4B66-049A-4822-B681-08E6D325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C99-7F61-47F1-AFA5-B378CE28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DE6-2878-4E0A-8B2B-5AAE33E9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02A-E3FA-4C8C-A213-67910429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CF0-F861-4C46-B1E6-E8700933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E5B-7814-41E6-BE6A-40AE0CF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F7D-65CE-4CF5-9027-2BEED572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4F8-8C3C-4068-BD04-C937F6B82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43.WAV" TargetMode="External"/><Relationship Id="rId2" Type="http://schemas.microsoft.com/office/2007/relationships/media" Target="file:///tmp/home/.config/libreoffice/4/user/gallery/~PP74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87.WAV" TargetMode="External"/><Relationship Id="rId2" Type="http://schemas.microsoft.com/office/2007/relationships/media" Target="file:///tmp/home/.config/libreoffice/4/user/gallery/~PP348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74.WAV" TargetMode="External"/><Relationship Id="rId2" Type="http://schemas.microsoft.com/office/2007/relationships/media" Target="file:///tmp/home/.config/libreoffice/4/user/gallery/~PP107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60.WAV" TargetMode="External"/><Relationship Id="rId2" Type="http://schemas.microsoft.com/office/2007/relationships/media" Target="file:///tmp/home/.config/libreoffice/4/user/gallery/~PP226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ater Safety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WHAT TO DO WHEN CAUGHT IN A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iara Pill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1052640"/>
            <a:ext cx="4681440" cy="172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1268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I’M GOING TO DIE HELP ME!!!!!!! AHHHHHHHHHHHHHH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7160" y="1844640"/>
            <a:ext cx="1440000" cy="1368360"/>
          </a:xfrm>
          <a:prstGeom prst="ellipse">
            <a:avLst/>
          </a:prstGeom>
          <a:solidFill>
            <a:srgbClr val="e7c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1560" y="220500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710244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2720" y="220500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7000" y="2708280"/>
            <a:ext cx="57636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995600">
            <a:off x="1331640" y="2707920"/>
            <a:ext cx="325440" cy="216000"/>
          </a:xfrm>
          <a:custGeom>
            <a:avLst/>
            <a:gdLst/>
            <a:ahLst/>
            <a:rect l="l" t="t" r="r" b="b"/>
            <a:pathLst>
              <a:path w="205" h="54">
                <a:moveTo>
                  <a:pt x="0" y="54"/>
                </a:moveTo>
                <a:cubicBezTo>
                  <a:pt x="7" y="35"/>
                  <a:pt x="15" y="16"/>
                  <a:pt x="45" y="8"/>
                </a:cubicBezTo>
                <a:cubicBezTo>
                  <a:pt x="75" y="0"/>
                  <a:pt x="159" y="0"/>
                  <a:pt x="182" y="8"/>
                </a:cubicBezTo>
                <a:cubicBezTo>
                  <a:pt x="205" y="16"/>
                  <a:pt x="193" y="35"/>
                  <a:pt x="182" y="54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8748720" cy="6408720"/>
          </a:xfrm>
          <a:prstGeom prst="ellipse">
            <a:avLst/>
          </a:prstGeom>
          <a:noFill/>
          <a:ln w="270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692280"/>
            <a:ext cx="5399280" cy="5041800"/>
          </a:xfrm>
          <a:prstGeom prst="line">
            <a:avLst/>
          </a:prstGeom>
          <a:ln w="270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2000" y="3716280"/>
            <a:ext cx="1440000" cy="1368360"/>
          </a:xfrm>
          <a:prstGeom prst="ellipse">
            <a:avLst/>
          </a:prstGeom>
          <a:solidFill>
            <a:srgbClr val="e7c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14828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414972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781160" y="3787920"/>
            <a:ext cx="576360" cy="1152360"/>
          </a:xfrm>
          <a:prstGeom prst="line">
            <a:avLst/>
          </a:prstGeom>
          <a:ln w="41400">
            <a:solidFill>
              <a:srgbClr val="e7c7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4960" y="3513240"/>
            <a:ext cx="360360" cy="287280"/>
          </a:xfrm>
          <a:prstGeom prst="ellipse">
            <a:avLst/>
          </a:prstGeom>
          <a:solidFill>
            <a:srgbClr val="e7c7e1"/>
          </a:solidFill>
          <a:ln w="9360">
            <a:solidFill>
              <a:srgbClr val="e7c7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7240" y="4654440"/>
            <a:ext cx="57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995600">
            <a:off x="3708360" y="4725360"/>
            <a:ext cx="325440" cy="142920"/>
          </a:xfrm>
          <a:custGeom>
            <a:avLst/>
            <a:gdLst/>
            <a:ahLst/>
            <a:rect l="l" t="t" r="r" b="b"/>
            <a:pathLst>
              <a:path w="205" h="54">
                <a:moveTo>
                  <a:pt x="0" y="54"/>
                </a:moveTo>
                <a:cubicBezTo>
                  <a:pt x="7" y="35"/>
                  <a:pt x="15" y="16"/>
                  <a:pt x="45" y="8"/>
                </a:cubicBezTo>
                <a:cubicBezTo>
                  <a:pt x="75" y="0"/>
                  <a:pt x="159" y="0"/>
                  <a:pt x="182" y="8"/>
                </a:cubicBezTo>
                <a:cubicBezTo>
                  <a:pt x="205" y="16"/>
                  <a:pt x="193" y="35"/>
                  <a:pt x="182" y="54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349360"/>
            <a:ext cx="1943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4829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65520" y="37540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573880" y="302112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4653000"/>
            <a:ext cx="1114560" cy="1584360"/>
          </a:xfrm>
          <a:prstGeom prst="line">
            <a:avLst/>
          </a:prstGeom>
          <a:ln w="165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059280" y="260280"/>
            <a:ext cx="5508360" cy="6021360"/>
          </a:xfrm>
          <a:prstGeom prst="line">
            <a:avLst/>
          </a:prstGeom>
          <a:ln w="165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19280" y="18446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01:15Z</dcterms:created>
  <dc:creator>Ciara</dc:creator>
  <dc:description/>
  <dc:language>en-US</dc:language>
  <cp:lastModifiedBy>Ciara</cp:lastModifiedBy>
  <dcterms:modified xsi:type="dcterms:W3CDTF">2009-02-16T06:40:19Z</dcterms:modified>
  <cp:revision>5</cp:revision>
  <dc:subject/>
  <dc:title>Water Safety WHAT TO DO WHEN CAUGHT IN A RIP</dc:title>
</cp:coreProperties>
</file>